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4.png" ContentType="image/png"/>
  <Override PartName="/ppt/media/image18.jpeg" ContentType="image/jpeg"/>
  <Override PartName="/ppt/media/image21.wmf" ContentType="image/x-wmf"/>
  <Override PartName="/ppt/media/image19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DF0-1798-46DD-A6B4-1D9959AF4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bonfires to la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things that are not sources of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bounces o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reaches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ook out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that the baby squirrel watches as it f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bounces off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ay the 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ry thi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iny sur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ny surf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 as a beam and can be seen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a different place on the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in a mirr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a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irection of the 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still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 a refle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differ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mp hangs between two large mirrors on opposite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ion in the first mirror is reflected in the second mirror, which is reflected again in the first mirror - -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object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n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shining on 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colours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light is made up of lots of col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 from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a lamp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through the gr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see                          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colou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h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erent to adding p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+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et in Ve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+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en +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ir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s- produce very bright beams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s all give out their li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use laser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flectio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face has tiny pits and smooth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spiral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ts scatter light from a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ooth bits reflect th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coded message is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is in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nd galaxies give out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m living in dark caves sends out light from its 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droplets form a string of shining beads to attract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ld things give out li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ung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 w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-in-the-dark’ sti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see light sour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from a source to our e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ee sources in a dark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see in the da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no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not see anyt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a test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few small objects into the black bag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B69D-4E9A-4BC2-8E5F-86D71CC1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0C552-0D3C-4C58-ACE7-E2E4919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F52E-015A-498B-BC80-0BFD5F61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D783-3613-45DA-889A-BC55CDD1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05792-D045-4870-8542-BD9BA4AC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6CCE-D807-4D2E-8957-EBF2B8F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9C773-A9F8-4609-B277-FF4143D9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3AADF-4C88-40B9-84D8-B5C3630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DCAC0-DCEE-4DDC-A87B-2C31925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3FCB9-BC77-4563-94E0-36F1D709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DE6FA-E568-408F-B924-316EE757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80A9-0A86-41DA-934E-0A8C270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F354-6E4E-4E55-81EA-4859002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AAE6-05DF-4EED-A9C4-6A53EDA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37EE2-1451-4E09-A357-7B2233D1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C0C30-3388-479A-9D0A-7BB51B21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F1527-C900-4A3B-A11B-8726B7DF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1370-6D51-4E36-A910-D69C1815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A2C1-8AAA-4822-BC6A-C5A3D564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E324-DE65-42E4-ACE9-A5EEEE6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4386-58A1-474F-832C-B5582E8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18C6-FF62-40DC-BD12-41A38BB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0DE5-68BA-4CE6-9989-1EC1666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ED58-C5A0-4037-97B8-D36B0A19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8420-A656-4889-A183-22F88BA1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456A-A0AE-4DC6-87B4-303E39C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1D778-DD7D-412B-A090-CD6FD695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14DD-956D-4737-A1CC-0E7AA862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A917-B7C4-47AB-A1A8-14E2BA4D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84BB-73B7-4808-BABA-9EB1086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CE9F-611E-4C5E-94D8-B3F65879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61C0-1508-4A70-AB32-0178C221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75DE-A903-4493-9E18-FCDD8DBE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25EC-79CB-4714-9E26-CF0A05A9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68B5-F2C0-42EC-B8EE-424F695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B3CC-BAD0-42A6-A2B1-071DA9A3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1AA6-A238-483B-9467-3918E5E8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B373A-C291-4C73-A4CF-C716482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AD39-070C-43A3-A8A5-4AE14E1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63C9-94D2-4A54-87FC-6B59E339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53E4-E2A4-4D8E-8D9A-EB0843E8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67A8-4B30-4256-8F96-032994A4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6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5200" y="198072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5564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6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5200" y="4010760"/>
            <a:ext cx="2480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D0318-0D29-42F3-A64C-8D0572FE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E7F8-79F0-4168-A9EF-894B3125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692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DA69-AD8D-4053-9585-9ABFF705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DA55-6ADC-471E-B1A1-F7A9246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03400" y="401076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9A8A-B415-42A8-9A69-824F983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980720"/>
            <a:ext cx="3759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10760"/>
            <a:ext cx="7704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6016-D464-4908-B580-C94EB23A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254-E911-4AE2-AE75-E0DC5AB10E7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5C5-80B9-4696-8CF1-C245E70CA78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590-DAC3-48E3-81D6-8ED4E9742C0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11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690840" indent="-26568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2" marL="1062720" indent="-21240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3" marL="1487880" indent="-21240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4" marL="1913040" indent="-2124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5EE9-47AD-4517-9D65-F9AA51618D1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500" spc="-1" strike="noStrike">
                <a:solidFill>
                  <a:srgbClr val="ffffff"/>
                </a:solidFill>
                <a:latin typeface="Comic Sans MS"/>
              </a:rPr>
              <a:t>LIGHT !</a:t>
            </a:r>
            <a:endParaRPr b="1" lang="en-US" sz="115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280" y="400536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from bonfires to lasers</a:t>
            </a: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9933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ow do we see things that are not sources of light?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5805000"/>
            <a:ext cx="7704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bounces off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and some reaches our eyes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65" name="Picture 4" descr="MCj02151650000[1]"/>
          <p:cNvPicPr/>
          <p:nvPr/>
        </p:nvPicPr>
        <p:blipFill>
          <a:blip r:embed="rId1"/>
          <a:stretch/>
        </p:blipFill>
        <p:spPr>
          <a:xfrm flipH="1" rot="20750400">
            <a:off x="826560" y="1916280"/>
            <a:ext cx="2304720" cy="20318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7211160" y="2182680"/>
            <a:ext cx="1354680" cy="1810080"/>
            <a:chOff x="7211160" y="2182680"/>
            <a:chExt cx="1354680" cy="1810080"/>
          </a:xfrm>
        </p:grpSpPr>
        <p:sp>
          <p:nvSpPr>
            <p:cNvPr id="267" name="Freeform 6"/>
            <p:cNvSpPr/>
            <p:nvPr/>
          </p:nvSpPr>
          <p:spPr>
            <a:xfrm rot="20749200">
              <a:off x="7412760" y="2276280"/>
              <a:ext cx="968760" cy="1622160"/>
            </a:xfrm>
            <a:custGeom>
              <a:avLst/>
              <a:gdLst>
                <a:gd name="textAreaLeft" fmla="*/ 0 w 968760"/>
                <a:gd name="textAreaRight" fmla="*/ 969120 w 968760"/>
                <a:gd name="textAreaTop" fmla="*/ 0 h 1622160"/>
                <a:gd name="textAreaBottom" fmla="*/ 1622520 h 162216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rc 7"/>
            <p:cNvSpPr/>
            <p:nvPr/>
          </p:nvSpPr>
          <p:spPr>
            <a:xfrm rot="13945800">
              <a:off x="7310160" y="2798640"/>
              <a:ext cx="864720" cy="67536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 rot="21081000">
              <a:off x="7521480" y="2904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9"/>
            <p:cNvSpPr/>
            <p:nvPr/>
          </p:nvSpPr>
          <p:spPr>
            <a:xfrm rot="2116200">
              <a:off x="7380360" y="2820240"/>
              <a:ext cx="654480" cy="72288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Picture 13" descr="MCj02511320000[1]"/>
          <p:cNvPicPr/>
          <p:nvPr/>
        </p:nvPicPr>
        <p:blipFill>
          <a:blip r:embed="rId2"/>
          <a:stretch/>
        </p:blipFill>
        <p:spPr>
          <a:xfrm>
            <a:off x="3851280" y="3824280"/>
            <a:ext cx="2376360" cy="1878120"/>
          </a:xfrm>
          <a:prstGeom prst="rect">
            <a:avLst/>
          </a:prstGeom>
          <a:ln w="0">
            <a:noFill/>
          </a:ln>
        </p:spPr>
      </p:pic>
      <p:sp>
        <p:nvSpPr>
          <p:cNvPr id="272" name="Line 19"/>
          <p:cNvSpPr/>
          <p:nvPr/>
        </p:nvSpPr>
        <p:spPr>
          <a:xfrm flipV="1">
            <a:off x="5651640" y="2491920"/>
            <a:ext cx="720720" cy="1368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3059280" y="3429000"/>
            <a:ext cx="1081080" cy="57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6084720" y="3428640"/>
            <a:ext cx="1297080" cy="64764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300720" y="4797360"/>
            <a:ext cx="1297080" cy="216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look out</a:t>
            </a:r>
            <a:r>
              <a:rPr b="1" lang="en-GB" sz="9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40360" y="692280"/>
            <a:ext cx="266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How do you know that the baby squirrel watches as it feeds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79" name="Picture 4" descr="baby squirre croppedl"/>
          <p:cNvPicPr/>
          <p:nvPr/>
        </p:nvPicPr>
        <p:blipFill>
          <a:blip r:embed="rId1"/>
          <a:stretch/>
        </p:blipFill>
        <p:spPr>
          <a:xfrm>
            <a:off x="539640" y="2781360"/>
            <a:ext cx="5616720" cy="3263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eflectio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040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en light bounces off something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 the light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flect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 can try this with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ugh surfaces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shiny surfac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46069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716360" y="0"/>
            <a:ext cx="4427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124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hiny surfaces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184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reflected as a beam and can be seen on the wall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900000" y="560160"/>
            <a:ext cx="6143400" cy="5300280"/>
            <a:chOff x="900000" y="560160"/>
            <a:chExt cx="6143400" cy="5300280"/>
          </a:xfrm>
        </p:grpSpPr>
        <p:pic>
          <p:nvPicPr>
            <p:cNvPr id="290" name="Picture 6" descr="hand-mirror"/>
            <p:cNvPicPr/>
            <p:nvPr/>
          </p:nvPicPr>
          <p:blipFill>
            <a:blip r:embed="rId1"/>
            <a:stretch/>
          </p:blipFill>
          <p:spPr>
            <a:xfrm rot="16483200">
              <a:off x="4274280" y="322164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7"/>
            <p:cNvSpPr/>
            <p:nvPr/>
          </p:nvSpPr>
          <p:spPr>
            <a:xfrm flipV="1">
              <a:off x="4140360" y="3933720"/>
              <a:ext cx="2158920" cy="93672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"/>
            <p:cNvSpPr/>
            <p:nvPr/>
          </p:nvSpPr>
          <p:spPr>
            <a:xfrm flipH="1" flipV="1">
              <a:off x="4211640" y="2204640"/>
              <a:ext cx="201600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 rot="9786600">
              <a:off x="1547280" y="907200"/>
              <a:ext cx="2819520" cy="2884680"/>
            </a:xfrm>
            <a:prstGeom prst="parallelogram">
              <a:avLst>
                <a:gd name="adj" fmla="val 2994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771640" y="1341360"/>
              <a:ext cx="792360" cy="720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900000" y="2565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"/>
                </a:rPr>
                <a:t>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7"/>
          <p:cNvSpPr/>
          <p:nvPr/>
        </p:nvSpPr>
        <p:spPr>
          <a:xfrm>
            <a:off x="6877080" y="443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720" y="404640"/>
            <a:ext cx="4340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ove the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ight reaches a different place on the wall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00" name="Picture 5" descr="hand-mirror"/>
          <p:cNvPicPr/>
          <p:nvPr/>
        </p:nvPicPr>
        <p:blipFill>
          <a:blip r:embed="rId1"/>
          <a:stretch/>
        </p:blipFill>
        <p:spPr>
          <a:xfrm rot="15195600">
            <a:off x="4274280" y="3294720"/>
            <a:ext cx="4122720" cy="1079640"/>
          </a:xfrm>
          <a:prstGeom prst="rect">
            <a:avLst/>
          </a:prstGeom>
          <a:ln w="0">
            <a:noFill/>
          </a:ln>
        </p:spPr>
      </p:pic>
      <p:sp>
        <p:nvSpPr>
          <p:cNvPr id="301" name="Line 6"/>
          <p:cNvSpPr/>
          <p:nvPr/>
        </p:nvSpPr>
        <p:spPr>
          <a:xfrm flipV="1">
            <a:off x="4140360" y="4005000"/>
            <a:ext cx="2158920" cy="93636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H="1" flipV="1">
            <a:off x="3995640" y="3357360"/>
            <a:ext cx="2232000" cy="50292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"/>
          <p:cNvSpPr/>
          <p:nvPr/>
        </p:nvSpPr>
        <p:spPr>
          <a:xfrm rot="9786600">
            <a:off x="1547280" y="907200"/>
            <a:ext cx="2819520" cy="2884680"/>
          </a:xfrm>
          <a:prstGeom prst="parallelogram">
            <a:avLst>
              <a:gd name="adj" fmla="val 2994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2843280" y="2852640"/>
            <a:ext cx="792000" cy="720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90000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Look in a mirror 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76360" y="1484280"/>
            <a:ext cx="74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is reflected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can see a reflection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607680" y="1612800"/>
            <a:ext cx="7814160" cy="3832200"/>
            <a:chOff x="607680" y="1612800"/>
            <a:chExt cx="7814160" cy="3832200"/>
          </a:xfrm>
        </p:grpSpPr>
        <p:sp>
          <p:nvSpPr>
            <p:cNvPr id="310" name="Line 16"/>
            <p:cNvSpPr/>
            <p:nvPr/>
          </p:nvSpPr>
          <p:spPr>
            <a:xfrm flipV="1">
              <a:off x="2843280" y="4437000"/>
              <a:ext cx="1869840" cy="100800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4" descr="MCj02151650000[1]"/>
            <p:cNvPicPr/>
            <p:nvPr/>
          </p:nvPicPr>
          <p:blipFill>
            <a:blip r:embed="rId1"/>
            <a:stretch/>
          </p:blipFill>
          <p:spPr>
            <a:xfrm flipH="1" rot="21328800">
              <a:off x="684000" y="1700280"/>
              <a:ext cx="2305080" cy="203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5"/>
            <p:cNvGrpSpPr/>
            <p:nvPr/>
          </p:nvGrpSpPr>
          <p:grpSpPr>
            <a:xfrm>
              <a:off x="6797520" y="1779480"/>
              <a:ext cx="1624320" cy="1887840"/>
              <a:chOff x="6797520" y="1779480"/>
              <a:chExt cx="1624320" cy="1887840"/>
            </a:xfrm>
          </p:grpSpPr>
          <p:sp>
            <p:nvSpPr>
              <p:cNvPr id="313" name="Freeform 6"/>
              <p:cNvSpPr/>
              <p:nvPr/>
            </p:nvSpPr>
            <p:spPr>
              <a:xfrm rot="19894200">
                <a:off x="7125120" y="1911960"/>
                <a:ext cx="968760" cy="162216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160"/>
                  <a:gd name="textAreaBottom" fmla="*/ 1622520 h 162216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rc 7"/>
              <p:cNvSpPr/>
              <p:nvPr/>
            </p:nvSpPr>
            <p:spPr>
              <a:xfrm rot="13090800">
                <a:off x="7039080" y="247068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8"/>
              <p:cNvSpPr/>
              <p:nvPr/>
            </p:nvSpPr>
            <p:spPr>
              <a:xfrm rot="20226000">
                <a:off x="7270560" y="261072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9"/>
              <p:cNvSpPr/>
              <p:nvPr/>
            </p:nvSpPr>
            <p:spPr>
              <a:xfrm rot="1261200">
                <a:off x="7121520" y="2499840"/>
                <a:ext cx="654480" cy="72288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2880"/>
                  <a:gd name="textAreaBottom" fmla="*/ 723240 h 72288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7" name="Picture 15" descr="hand-mirror"/>
            <p:cNvPicPr/>
            <p:nvPr/>
          </p:nvPicPr>
          <p:blipFill>
            <a:blip r:embed="rId2"/>
            <a:stretch/>
          </p:blipFill>
          <p:spPr>
            <a:xfrm>
              <a:off x="2987640" y="3645000"/>
              <a:ext cx="412272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2"/>
            <p:cNvSpPr/>
            <p:nvPr/>
          </p:nvSpPr>
          <p:spPr>
            <a:xfrm>
              <a:off x="2916360" y="3213000"/>
              <a:ext cx="1942920" cy="107964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3"/>
            <p:cNvSpPr/>
            <p:nvPr/>
          </p:nvSpPr>
          <p:spPr>
            <a:xfrm flipV="1">
              <a:off x="4932360" y="2997360"/>
              <a:ext cx="2303640" cy="129528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7" descr="MCj02151650000[1]"/>
          <p:cNvPicPr/>
          <p:nvPr/>
        </p:nvPicPr>
        <p:blipFill>
          <a:blip r:embed="rId3">
            <a:lum bright="18000"/>
          </a:blip>
          <a:stretch/>
        </p:blipFill>
        <p:spPr>
          <a:xfrm rot="11071200">
            <a:off x="826560" y="4797000"/>
            <a:ext cx="2305080" cy="2032560"/>
          </a:xfrm>
          <a:prstGeom prst="rect">
            <a:avLst/>
          </a:prstGeom>
          <a:ln w="0">
            <a:noFill/>
          </a:ln>
        </p:spPr>
      </p:pic>
      <p:sp>
        <p:nvSpPr>
          <p:cNvPr id="321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4" descr="MCj02151650000[1]"/>
          <p:cNvPicPr/>
          <p:nvPr/>
        </p:nvPicPr>
        <p:blipFill>
          <a:blip r:embed="rId1">
            <a:lum bright="18000"/>
          </a:blip>
          <a:stretch/>
        </p:blipFill>
        <p:spPr>
          <a:xfrm rot="9039600">
            <a:off x="2194920" y="5373000"/>
            <a:ext cx="2305080" cy="2031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2520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Change the direction of the light beam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35640" y="4652640"/>
            <a:ext cx="406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Light is still reflected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You see a reflection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-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in a different    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9933ff"/>
                </a:solidFill>
                <a:latin typeface="Comic Sans MS"/>
              </a:rPr>
              <a:t>direction.</a:t>
            </a:r>
            <a:endParaRPr b="1" lang="en-US" sz="24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1678320" y="257040"/>
            <a:ext cx="5442480" cy="5548320"/>
            <a:chOff x="1678320" y="257040"/>
            <a:chExt cx="5442480" cy="5548320"/>
          </a:xfrm>
        </p:grpSpPr>
        <p:sp>
          <p:nvSpPr>
            <p:cNvPr id="326" name="Line 2"/>
            <p:cNvSpPr/>
            <p:nvPr/>
          </p:nvSpPr>
          <p:spPr>
            <a:xfrm flipV="1">
              <a:off x="3635280" y="4294080"/>
              <a:ext cx="792000" cy="1511280"/>
            </a:xfrm>
            <a:prstGeom prst="line">
              <a:avLst/>
            </a:prstGeom>
            <a:ln w="114480">
              <a:solidFill>
                <a:srgbClr val="dedc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MCj02151650000[1]"/>
            <p:cNvPicPr/>
            <p:nvPr/>
          </p:nvPicPr>
          <p:blipFill>
            <a:blip r:embed="rId2"/>
            <a:stretch/>
          </p:blipFill>
          <p:spPr>
            <a:xfrm flipH="1" rot="1350000">
              <a:off x="1978920" y="620640"/>
              <a:ext cx="2305080" cy="20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Group 6"/>
            <p:cNvGrpSpPr/>
            <p:nvPr/>
          </p:nvGrpSpPr>
          <p:grpSpPr>
            <a:xfrm>
              <a:off x="5249160" y="346320"/>
              <a:ext cx="1871640" cy="1524240"/>
              <a:chOff x="5249160" y="346320"/>
              <a:chExt cx="1871640" cy="1524240"/>
            </a:xfrm>
          </p:grpSpPr>
          <p:sp>
            <p:nvSpPr>
              <p:cNvPr id="329" name="Freeform 7"/>
              <p:cNvSpPr/>
              <p:nvPr/>
            </p:nvSpPr>
            <p:spPr>
              <a:xfrm rot="17576400">
                <a:off x="5700600" y="297000"/>
                <a:ext cx="968760" cy="1622520"/>
              </a:xfrm>
              <a:custGeom>
                <a:avLst/>
                <a:gdLst>
                  <a:gd name="textAreaLeft" fmla="*/ 0 w 968760"/>
                  <a:gd name="textAreaRight" fmla="*/ 969120 w 968760"/>
                  <a:gd name="textAreaTop" fmla="*/ 0 h 1622520"/>
                  <a:gd name="textAreaBottom" fmla="*/ 1622880 h 1622520"/>
                </a:gdLst>
                <a:ahLst/>
                <a:rect l="textAreaLeft" t="textAreaTop" r="textAreaRight" b="textAreaBottom"/>
                <a:pathLst>
                  <a:path w="1527" h="2555">
                    <a:moveTo>
                      <a:pt x="300" y="0"/>
                    </a:moveTo>
                    <a:cubicBezTo>
                      <a:pt x="317" y="84"/>
                      <a:pt x="351" y="101"/>
                      <a:pt x="388" y="176"/>
                    </a:cubicBezTo>
                    <a:cubicBezTo>
                      <a:pt x="429" y="258"/>
                      <a:pt x="490" y="321"/>
                      <a:pt x="538" y="401"/>
                    </a:cubicBezTo>
                    <a:cubicBezTo>
                      <a:pt x="580" y="470"/>
                      <a:pt x="624" y="552"/>
                      <a:pt x="676" y="614"/>
                    </a:cubicBezTo>
                    <a:cubicBezTo>
                      <a:pt x="703" y="646"/>
                      <a:pt x="739" y="669"/>
                      <a:pt x="764" y="702"/>
                    </a:cubicBezTo>
                    <a:cubicBezTo>
                      <a:pt x="839" y="803"/>
                      <a:pt x="907" y="932"/>
                      <a:pt x="1014" y="1002"/>
                    </a:cubicBezTo>
                    <a:cubicBezTo>
                      <a:pt x="1073" y="1091"/>
                      <a:pt x="1153" y="1153"/>
                      <a:pt x="1227" y="1228"/>
                    </a:cubicBezTo>
                    <a:cubicBezTo>
                      <a:pt x="1318" y="1320"/>
                      <a:pt x="1214" y="1245"/>
                      <a:pt x="1302" y="1303"/>
                    </a:cubicBezTo>
                    <a:cubicBezTo>
                      <a:pt x="1310" y="1315"/>
                      <a:pt x="1314" y="1332"/>
                      <a:pt x="1327" y="1340"/>
                    </a:cubicBezTo>
                    <a:cubicBezTo>
                      <a:pt x="1349" y="1354"/>
                      <a:pt x="1402" y="1365"/>
                      <a:pt x="1402" y="1365"/>
                    </a:cubicBezTo>
                    <a:cubicBezTo>
                      <a:pt x="1445" y="1398"/>
                      <a:pt x="1476" y="1435"/>
                      <a:pt x="1527" y="1453"/>
                    </a:cubicBezTo>
                    <a:cubicBezTo>
                      <a:pt x="1502" y="1461"/>
                      <a:pt x="1478" y="1472"/>
                      <a:pt x="1452" y="1478"/>
                    </a:cubicBezTo>
                    <a:cubicBezTo>
                      <a:pt x="1419" y="1486"/>
                      <a:pt x="1352" y="1503"/>
                      <a:pt x="1352" y="1503"/>
                    </a:cubicBezTo>
                    <a:cubicBezTo>
                      <a:pt x="1284" y="1548"/>
                      <a:pt x="1254" y="1543"/>
                      <a:pt x="1164" y="1553"/>
                    </a:cubicBezTo>
                    <a:cubicBezTo>
                      <a:pt x="1123" y="1580"/>
                      <a:pt x="1082" y="1591"/>
                      <a:pt x="1039" y="1616"/>
                    </a:cubicBezTo>
                    <a:cubicBezTo>
                      <a:pt x="942" y="1672"/>
                      <a:pt x="850" y="1727"/>
                      <a:pt x="751" y="1779"/>
                    </a:cubicBezTo>
                    <a:cubicBezTo>
                      <a:pt x="708" y="1801"/>
                      <a:pt x="665" y="1825"/>
                      <a:pt x="626" y="1854"/>
                    </a:cubicBezTo>
                    <a:cubicBezTo>
                      <a:pt x="607" y="1868"/>
                      <a:pt x="594" y="1889"/>
                      <a:pt x="576" y="1904"/>
                    </a:cubicBezTo>
                    <a:cubicBezTo>
                      <a:pt x="560" y="1918"/>
                      <a:pt x="543" y="1929"/>
                      <a:pt x="526" y="1941"/>
                    </a:cubicBezTo>
                    <a:cubicBezTo>
                      <a:pt x="472" y="1978"/>
                      <a:pt x="408" y="2018"/>
                      <a:pt x="363" y="2067"/>
                    </a:cubicBezTo>
                    <a:cubicBezTo>
                      <a:pt x="177" y="2273"/>
                      <a:pt x="366" y="2081"/>
                      <a:pt x="250" y="2229"/>
                    </a:cubicBezTo>
                    <a:cubicBezTo>
                      <a:pt x="235" y="2248"/>
                      <a:pt x="216" y="2261"/>
                      <a:pt x="200" y="2279"/>
                    </a:cubicBezTo>
                    <a:cubicBezTo>
                      <a:pt x="182" y="2299"/>
                      <a:pt x="166" y="2320"/>
                      <a:pt x="150" y="2342"/>
                    </a:cubicBezTo>
                    <a:cubicBezTo>
                      <a:pt x="117" y="2386"/>
                      <a:pt x="102" y="2428"/>
                      <a:pt x="62" y="2467"/>
                    </a:cubicBezTo>
                    <a:cubicBezTo>
                      <a:pt x="49" y="2509"/>
                      <a:pt x="29" y="2523"/>
                      <a:pt x="0" y="255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Arc 8"/>
              <p:cNvSpPr/>
              <p:nvPr/>
            </p:nvSpPr>
            <p:spPr>
              <a:xfrm rot="10773000">
                <a:off x="5697720" y="923400"/>
                <a:ext cx="864720" cy="675360"/>
              </a:xfrm>
              <a:custGeom>
                <a:avLst/>
                <a:gdLst>
                  <a:gd name="textAreaLeft" fmla="*/ 0 w 864720"/>
                  <a:gd name="textAreaRight" fmla="*/ 865080 w 864720"/>
                  <a:gd name="textAreaTop" fmla="*/ 0 h 675360"/>
                  <a:gd name="textAreaBottom" fmla="*/ 675720 h 675360"/>
                </a:gdLst>
                <a:ahLst/>
                <a:rect l="textAreaLeft" t="textAreaTop" r="textAreaRight" b="textAreaBottom"/>
                <a:pathLst>
                  <a:path fill="none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</a:path>
                  <a:path stroke="0" w="21368" h="21600">
                    <a:moveTo>
                      <a:pt x="-1" y="0"/>
                    </a:moveTo>
                    <a:cubicBezTo>
                      <a:pt x="10708" y="0"/>
                      <a:pt x="19800" y="7845"/>
                      <a:pt x="21367" y="1843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9"/>
              <p:cNvSpPr/>
              <p:nvPr/>
            </p:nvSpPr>
            <p:spPr>
              <a:xfrm rot="17907600">
                <a:off x="6016320" y="1119240"/>
                <a:ext cx="154080" cy="58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Arc 10"/>
              <p:cNvSpPr/>
              <p:nvPr/>
            </p:nvSpPr>
            <p:spPr>
              <a:xfrm rot="20542800">
                <a:off x="5818680" y="955080"/>
                <a:ext cx="654480" cy="723240"/>
              </a:xfrm>
              <a:custGeom>
                <a:avLst/>
                <a:gdLst>
                  <a:gd name="textAreaLeft" fmla="*/ 0 w 654480"/>
                  <a:gd name="textAreaRight" fmla="*/ 654840 w 65448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fill="none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</a:path>
                  <a:path stroke="0" w="21628" h="21600">
                    <a:moveTo>
                      <a:pt x="0" y="0"/>
                    </a:moveTo>
                    <a:cubicBezTo>
                      <a:pt x="9" y="0"/>
                      <a:pt x="18" y="-1"/>
                      <a:pt x="28" y="0"/>
                    </a:cubicBezTo>
                    <a:cubicBezTo>
                      <a:pt x="11957" y="0"/>
                      <a:pt x="21628" y="9670"/>
                      <a:pt x="21628" y="21600"/>
                    </a:cubicBezTo>
                    <a:lnTo>
                      <a:pt x="28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3" name="Picture 11" descr="hand-mirror"/>
            <p:cNvPicPr/>
            <p:nvPr/>
          </p:nvPicPr>
          <p:blipFill>
            <a:blip r:embed="rId3"/>
            <a:stretch/>
          </p:blipFill>
          <p:spPr>
            <a:xfrm>
              <a:off x="2627280" y="3141360"/>
              <a:ext cx="4122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Line 12"/>
            <p:cNvSpPr/>
            <p:nvPr/>
          </p:nvSpPr>
          <p:spPr>
            <a:xfrm>
              <a:off x="3492360" y="2133360"/>
              <a:ext cx="1079640" cy="158436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 flipV="1">
              <a:off x="4716360" y="1701720"/>
              <a:ext cx="1079640" cy="2016000"/>
            </a:xfrm>
            <a:prstGeom prst="line">
              <a:avLst/>
            </a:prstGeom>
            <a:ln w="114480">
              <a:solidFill>
                <a:srgbClr val="ddd8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52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ultip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reflections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374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lamp hangs between two large mirrors on opposite wall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reflection in the first mirror is reflected in the second mirror, which is reflected again in the first mirror - - -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39" name="Picture 4" descr="reflections3"/>
          <p:cNvPicPr/>
          <p:nvPr/>
        </p:nvPicPr>
        <p:blipFill>
          <a:blip r:embed="rId1"/>
          <a:stretch/>
        </p:blipFill>
        <p:spPr>
          <a:xfrm>
            <a:off x="4500720" y="404640"/>
            <a:ext cx="4360680" cy="5877000"/>
          </a:xfrm>
          <a:prstGeom prst="rect">
            <a:avLst/>
          </a:prstGeom>
          <a:ln w="0">
            <a:noFill/>
          </a:ln>
        </p:spPr>
      </p:pic>
      <p:sp>
        <p:nvSpPr>
          <p:cNvPr id="34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50920" y="1628640"/>
            <a:ext cx="48974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some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games</a:t>
            </a:r>
            <a:r>
              <a:rPr b="1" lang="en-GB" sz="10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urces of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00360" y="6021360"/>
            <a:ext cx="590544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Hot object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3" name="Picture 4" descr="Bonfire%20ablaze"/>
          <p:cNvPicPr/>
          <p:nvPr/>
        </p:nvPicPr>
        <p:blipFill>
          <a:blip r:embed="rId1"/>
          <a:stretch/>
        </p:blipFill>
        <p:spPr>
          <a:xfrm>
            <a:off x="1476360" y="1557360"/>
            <a:ext cx="6083280" cy="4201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200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A bonf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5400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fe2110"/>
                </a:solidFill>
                <a:latin typeface="Comic Sans MS"/>
              </a:rPr>
              <a:t>Colour</a:t>
            </a:r>
            <a:endParaRPr b="1" lang="en-US" sz="10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unlight shining on CD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4360" y="1699920"/>
            <a:ext cx="4174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Where do the colours come from?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47" name="Picture 5" descr="CD colour larger"/>
          <p:cNvPicPr/>
          <p:nvPr/>
        </p:nvPicPr>
        <p:blipFill>
          <a:blip r:embed="rId1"/>
          <a:stretch/>
        </p:blipFill>
        <p:spPr>
          <a:xfrm>
            <a:off x="826920" y="1773360"/>
            <a:ext cx="3240360" cy="2884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9" descr="CDs bright smaller"/>
          <p:cNvPicPr/>
          <p:nvPr/>
        </p:nvPicPr>
        <p:blipFill>
          <a:blip r:embed="rId2"/>
          <a:stretch/>
        </p:blipFill>
        <p:spPr>
          <a:xfrm>
            <a:off x="3564000" y="2852640"/>
            <a:ext cx="4464000" cy="3498840"/>
          </a:xfrm>
          <a:prstGeom prst="rect">
            <a:avLst/>
          </a:prstGeom>
          <a:ln w="0">
            <a:noFill/>
          </a:ln>
        </p:spPr>
      </p:pic>
      <p:sp>
        <p:nvSpPr>
          <p:cNvPr id="34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02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Rainb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019640" y="1773000"/>
            <a:ext cx="15843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orang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ellow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reen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indigo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violet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2" name="Picture 7" descr="Skye rainbowcard"/>
          <p:cNvPicPr/>
          <p:nvPr/>
        </p:nvPicPr>
        <p:blipFill>
          <a:blip r:embed="rId1"/>
          <a:stretch/>
        </p:blipFill>
        <p:spPr>
          <a:xfrm>
            <a:off x="684360" y="1844640"/>
            <a:ext cx="6192720" cy="4044960"/>
          </a:xfrm>
          <a:prstGeom prst="rect">
            <a:avLst/>
          </a:prstGeom>
          <a:ln w="0">
            <a:noFill/>
          </a:ln>
        </p:spPr>
      </p:pic>
      <p:sp>
        <p:nvSpPr>
          <p:cNvPr id="3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hite light is made up of lots of colou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56" name="Picture 4" descr="MCj03918040000[1]"/>
          <p:cNvPicPr/>
          <p:nvPr/>
        </p:nvPicPr>
        <p:blipFill>
          <a:blip r:embed="rId1"/>
          <a:stretch/>
        </p:blipFill>
        <p:spPr>
          <a:xfrm>
            <a:off x="611280" y="3645000"/>
            <a:ext cx="3986280" cy="1079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MCj01043500000[1]"/>
          <p:cNvPicPr/>
          <p:nvPr/>
        </p:nvPicPr>
        <p:blipFill>
          <a:blip r:embed="rId2"/>
          <a:stretch/>
        </p:blipFill>
        <p:spPr>
          <a:xfrm>
            <a:off x="4500720" y="4005360"/>
            <a:ext cx="3944880" cy="3695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4" descr="MCj01979380000[1]"/>
          <p:cNvPicPr/>
          <p:nvPr/>
        </p:nvPicPr>
        <p:blipFill>
          <a:blip r:embed="rId3"/>
          <a:stretch/>
        </p:blipFill>
        <p:spPr>
          <a:xfrm>
            <a:off x="6191280" y="836640"/>
            <a:ext cx="2952720" cy="274320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olours from white light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42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ook at a lamp               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              through the grating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You will see                           colours.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362" name="Picture 4" descr="difrraction and lamp"/>
          <p:cNvPicPr/>
          <p:nvPr/>
        </p:nvPicPr>
        <p:blipFill>
          <a:blip r:embed="rId1"/>
          <a:stretch/>
        </p:blipFill>
        <p:spPr>
          <a:xfrm>
            <a:off x="324000" y="1628640"/>
            <a:ext cx="3168360" cy="2490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diffraction pattern"/>
          <p:cNvPicPr/>
          <p:nvPr/>
        </p:nvPicPr>
        <p:blipFill>
          <a:blip r:embed="rId2"/>
          <a:stretch/>
        </p:blipFill>
        <p:spPr>
          <a:xfrm>
            <a:off x="3419640" y="3429000"/>
            <a:ext cx="5205240" cy="2938320"/>
          </a:xfrm>
          <a:prstGeom prst="rect">
            <a:avLst/>
          </a:prstGeom>
          <a:ln w="0">
            <a:noFill/>
          </a:ln>
        </p:spPr>
      </p:pic>
      <p:sp>
        <p:nvSpPr>
          <p:cNvPr id="3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211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red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0"/>
            <a:ext cx="95392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blu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8515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Adding colours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 with light</a:t>
            </a:r>
            <a:endParaRPr b="1" lang="en-US" sz="6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704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This is different to adding paint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e2110"/>
                </a:solidFill>
                <a:latin typeface="Comic Sans MS"/>
              </a:rPr>
              <a:t>Red</a:t>
            </a:r>
            <a:r>
              <a:rPr b="1" lang="en-GB" sz="7200" spc="-1" strike="noStrike">
                <a:solidFill>
                  <a:srgbClr val="cc00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1557360"/>
            <a:ext cx="9144000" cy="5300640"/>
          </a:xfrm>
          <a:prstGeom prst="rect">
            <a:avLst/>
          </a:prstGeom>
          <a:gradFill rotWithShape="0">
            <a:gsLst>
              <a:gs pos="0">
                <a:srgbClr val="ff0900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98764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The Sun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388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unset in Venice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28" name="Picture 5" descr="sunset"/>
          <p:cNvPicPr/>
          <p:nvPr/>
        </p:nvPicPr>
        <p:blipFill>
          <a:blip r:embed="rId1"/>
          <a:stretch/>
        </p:blipFill>
        <p:spPr>
          <a:xfrm>
            <a:off x="1403280" y="1628640"/>
            <a:ext cx="6697800" cy="4676760"/>
          </a:xfrm>
          <a:prstGeom prst="rect">
            <a:avLst/>
          </a:prstGeom>
          <a:ln w="0">
            <a:noFill/>
          </a:ln>
        </p:spPr>
      </p:pic>
      <p:sp>
        <p:nvSpPr>
          <p:cNvPr id="22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Comic Sans MS"/>
              </a:rPr>
              <a:t>Blue</a:t>
            </a:r>
            <a:r>
              <a:rPr b="1" lang="en-GB" sz="7200" spc="-1" strike="noStrike">
                <a:solidFill>
                  <a:srgbClr val="00cc99"/>
                </a:solidFill>
                <a:latin typeface="Comic Sans MS"/>
              </a:rPr>
              <a:t> + </a:t>
            </a:r>
            <a:r>
              <a:rPr b="1" lang="en-GB" sz="7200" spc="-1" strike="noStrike">
                <a:solidFill>
                  <a:srgbClr val="00cc00"/>
                </a:solidFill>
                <a:latin typeface="Comic Sans MS"/>
              </a:rPr>
              <a:t>Green</a:t>
            </a:r>
            <a:endParaRPr b="1" lang="en-US" sz="72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ff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1" lang="en-US" sz="40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cc00"/>
                </a:solidFill>
                <a:latin typeface="Comic Sans MS"/>
              </a:rPr>
              <a:t>Green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10000" spc="-1" strike="noStrike">
                <a:solidFill>
                  <a:srgbClr val="f4ee00"/>
                </a:solidFill>
                <a:latin typeface="Comic Sans MS"/>
              </a:rPr>
              <a:t>+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Red</a:t>
            </a:r>
            <a:endParaRPr b="1" lang="en-US" sz="5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6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560" y="0"/>
            <a:ext cx="102250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3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24000" y="33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68360" y="549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516924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Fairy lights</a:t>
            </a:r>
            <a:endParaRPr b="1" lang="en-US" sz="66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0036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635280" y="371628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116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788000" y="400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1908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2771640" y="4365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1"/>
          <p:cNvSpPr/>
          <p:nvPr/>
        </p:nvSpPr>
        <p:spPr>
          <a:xfrm>
            <a:off x="5003640" y="3141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/>
          <p:cNvSpPr/>
          <p:nvPr/>
        </p:nvSpPr>
        <p:spPr>
          <a:xfrm>
            <a:off x="3851280" y="4653000"/>
            <a:ext cx="914400" cy="914400"/>
          </a:xfrm>
          <a:prstGeom prst="sun">
            <a:avLst>
              <a:gd name="adj" fmla="val 250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5867280" y="3933720"/>
            <a:ext cx="914400" cy="9144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6012000" y="2781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7020000" y="3573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7308720" y="256536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Uses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770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asers- produce very bright beams of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toms all give out their light toge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CDs use laser light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reflection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1738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CDs</a:t>
            </a:r>
            <a:endParaRPr b="1" lang="en-US" sz="48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3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urface has tiny pits and smooth bits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a spiral patte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pits scatter light from a laser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the smooth bits reflect the light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so a coded message is read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grpSp>
        <p:nvGrpSpPr>
          <p:cNvPr id="416" name="Group 30"/>
          <p:cNvGrpSpPr/>
          <p:nvPr/>
        </p:nvGrpSpPr>
        <p:grpSpPr>
          <a:xfrm>
            <a:off x="900000" y="1557360"/>
            <a:ext cx="6748560" cy="2179440"/>
            <a:chOff x="900000" y="1557360"/>
            <a:chExt cx="6748560" cy="2179440"/>
          </a:xfrm>
        </p:grpSpPr>
        <p:grpSp>
          <p:nvGrpSpPr>
            <p:cNvPr id="417" name="Group 15"/>
            <p:cNvGrpSpPr/>
            <p:nvPr/>
          </p:nvGrpSpPr>
          <p:grpSpPr>
            <a:xfrm>
              <a:off x="900000" y="2675880"/>
              <a:ext cx="6748560" cy="1060920"/>
              <a:chOff x="900000" y="2675880"/>
              <a:chExt cx="6748560" cy="1060920"/>
            </a:xfrm>
          </p:grpSpPr>
          <p:grpSp>
            <p:nvGrpSpPr>
              <p:cNvPr id="418" name="Group 16"/>
              <p:cNvGrpSpPr/>
              <p:nvPr/>
            </p:nvGrpSpPr>
            <p:grpSpPr>
              <a:xfrm>
                <a:off x="900000" y="2675880"/>
                <a:ext cx="2013480" cy="1029240"/>
                <a:chOff x="900000" y="2675880"/>
                <a:chExt cx="2013480" cy="1029240"/>
              </a:xfrm>
            </p:grpSpPr>
            <p:sp>
              <p:nvSpPr>
                <p:cNvPr id="419" name="Arc 17"/>
                <p:cNvSpPr/>
                <p:nvPr/>
              </p:nvSpPr>
              <p:spPr>
                <a:xfrm rot="8542200">
                  <a:off x="1981080" y="28530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8"/>
                <p:cNvSpPr/>
                <p:nvPr/>
              </p:nvSpPr>
              <p:spPr>
                <a:xfrm flipV="1">
                  <a:off x="900000" y="31863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19"/>
              <p:cNvGrpSpPr/>
              <p:nvPr/>
            </p:nvGrpSpPr>
            <p:grpSpPr>
              <a:xfrm>
                <a:off x="2880720" y="2692080"/>
                <a:ext cx="2013480" cy="1029240"/>
                <a:chOff x="2880720" y="2692080"/>
                <a:chExt cx="2013480" cy="1029240"/>
              </a:xfrm>
            </p:grpSpPr>
            <p:sp>
              <p:nvSpPr>
                <p:cNvPr id="422" name="Arc 20"/>
                <p:cNvSpPr/>
                <p:nvPr/>
              </p:nvSpPr>
              <p:spPr>
                <a:xfrm rot="8542200">
                  <a:off x="3961800" y="286920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1"/>
                <p:cNvSpPr/>
                <p:nvPr/>
              </p:nvSpPr>
              <p:spPr>
                <a:xfrm flipV="1">
                  <a:off x="2880720" y="320256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22"/>
              <p:cNvGrpSpPr/>
              <p:nvPr/>
            </p:nvGrpSpPr>
            <p:grpSpPr>
              <a:xfrm>
                <a:off x="4866840" y="2707560"/>
                <a:ext cx="2013480" cy="1029240"/>
                <a:chOff x="4866840" y="2707560"/>
                <a:chExt cx="2013480" cy="1029240"/>
              </a:xfrm>
            </p:grpSpPr>
            <p:sp>
              <p:nvSpPr>
                <p:cNvPr id="425" name="Arc 23"/>
                <p:cNvSpPr/>
                <p:nvPr/>
              </p:nvSpPr>
              <p:spPr>
                <a:xfrm rot="8542200">
                  <a:off x="5947920" y="2884680"/>
                  <a:ext cx="810720" cy="674640"/>
                </a:xfrm>
                <a:custGeom>
                  <a:avLst/>
                  <a:gdLst>
                    <a:gd name="textAreaLeft" fmla="*/ 0 w 810720"/>
                    <a:gd name="textAreaRight" fmla="*/ 811080 w 810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"/>
                <p:cNvSpPr/>
                <p:nvPr/>
              </p:nvSpPr>
              <p:spPr>
                <a:xfrm flipV="1">
                  <a:off x="4866840" y="3218040"/>
                  <a:ext cx="985680" cy="7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Line 25"/>
              <p:cNvSpPr/>
              <p:nvPr/>
            </p:nvSpPr>
            <p:spPr>
              <a:xfrm flipV="1">
                <a:off x="6869520" y="3241800"/>
                <a:ext cx="779040" cy="7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Line 26"/>
            <p:cNvSpPr/>
            <p:nvPr/>
          </p:nvSpPr>
          <p:spPr>
            <a:xfrm>
              <a:off x="2700360" y="1702080"/>
              <a:ext cx="576360" cy="1511280"/>
            </a:xfrm>
            <a:prstGeom prst="line">
              <a:avLst/>
            </a:prstGeom>
            <a:ln w="69840">
              <a:solidFill>
                <a:srgbClr val="fe21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V="1">
              <a:off x="3276720" y="1557360"/>
              <a:ext cx="431640" cy="1656000"/>
            </a:xfrm>
            <a:prstGeom prst="line">
              <a:avLst/>
            </a:prstGeom>
            <a:ln w="82440">
              <a:solidFill>
                <a:srgbClr val="fe211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spiral2"/>
          <p:cNvPicPr/>
          <p:nvPr/>
        </p:nvPicPr>
        <p:blipFill>
          <a:blip r:embed="rId1"/>
          <a:stretch/>
        </p:blipFill>
        <p:spPr>
          <a:xfrm>
            <a:off x="6227640" y="7509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1"/>
          <p:cNvSpPr/>
          <p:nvPr/>
        </p:nvSpPr>
        <p:spPr>
          <a:xfrm>
            <a:off x="7667640" y="83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laser show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681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  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aser show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87280" y="5950080"/>
            <a:ext cx="576108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hysics is in everything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43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202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tars 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4292280"/>
            <a:ext cx="2735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tars and galaxies give out light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156360" y="61657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cture:  Liverpool Tele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Bubble_LT_NSO"/>
          <p:cNvPicPr/>
          <p:nvPr/>
        </p:nvPicPr>
        <p:blipFill>
          <a:blip r:embed="rId1"/>
          <a:stretch/>
        </p:blipFill>
        <p:spPr>
          <a:xfrm>
            <a:off x="3635280" y="981000"/>
            <a:ext cx="4680000" cy="4629240"/>
          </a:xfrm>
          <a:prstGeom prst="rect">
            <a:avLst/>
          </a:prstGeom>
          <a:ln w="0">
            <a:noFill/>
          </a:ln>
        </p:spPr>
      </p:pic>
      <p:sp>
        <p:nvSpPr>
          <p:cNvPr id="23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5280" y="836640"/>
            <a:ext cx="331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Lightning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pic>
        <p:nvPicPr>
          <p:cNvPr id="236" name="Picture 7" descr="lightning"/>
          <p:cNvPicPr/>
          <p:nvPr/>
        </p:nvPicPr>
        <p:blipFill>
          <a:blip r:embed="rId1"/>
          <a:stretch/>
        </p:blipFill>
        <p:spPr>
          <a:xfrm>
            <a:off x="3564000" y="2781360"/>
            <a:ext cx="5040360" cy="3666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lightning"/>
          <p:cNvPicPr/>
          <p:nvPr/>
        </p:nvPicPr>
        <p:blipFill>
          <a:blip r:embed="rId2"/>
          <a:stretch/>
        </p:blipFill>
        <p:spPr>
          <a:xfrm>
            <a:off x="684360" y="765000"/>
            <a:ext cx="4464000" cy="3405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Lightening20050628cr"/>
          <p:cNvPicPr/>
          <p:nvPr/>
        </p:nvPicPr>
        <p:blipFill>
          <a:blip r:embed="rId3"/>
          <a:stretch/>
        </p:blipFill>
        <p:spPr>
          <a:xfrm>
            <a:off x="684360" y="4653000"/>
            <a:ext cx="2627280" cy="177336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A worm living in dark caves sends out light from its tail.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92360" y="2349360"/>
            <a:ext cx="331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quid droplets form a string of shining beads to attract insects.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2" name="Picture 4" descr="sorces of light"/>
          <p:cNvPicPr/>
          <p:nvPr/>
        </p:nvPicPr>
        <p:blipFill>
          <a:blip r:embed="rId1"/>
          <a:stretch/>
        </p:blipFill>
        <p:spPr>
          <a:xfrm>
            <a:off x="611280" y="2205000"/>
            <a:ext cx="4645080" cy="3517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68360" y="609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il of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 flipH="1" flipV="1">
            <a:off x="2484000" y="4221000"/>
            <a:ext cx="505080" cy="1873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Some cold things give out light:</a:t>
            </a:r>
            <a:endParaRPr b="1" lang="en-US" sz="40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4681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some fungi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 worm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ight stick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LEDs 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‘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glow-in-the-dark’ stickers</a:t>
            </a:r>
            <a:endParaRPr b="1" lang="en-US" sz="32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48" name="Picture 7" descr="Glowing_fungi3"/>
          <p:cNvPicPr/>
          <p:nvPr/>
        </p:nvPicPr>
        <p:blipFill>
          <a:blip r:embed="rId1"/>
          <a:stretch/>
        </p:blipFill>
        <p:spPr>
          <a:xfrm>
            <a:off x="5940360" y="2349360"/>
            <a:ext cx="2451240" cy="29084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How do we see light sources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720" y="4365360"/>
            <a:ext cx="4392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ight travels from a source to our eyes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e can see sources in a dark room.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</p:txBody>
      </p:sp>
      <p:pic>
        <p:nvPicPr>
          <p:cNvPr id="252" name="Picture 6" descr="MCj02151650000[1]"/>
          <p:cNvPicPr/>
          <p:nvPr/>
        </p:nvPicPr>
        <p:blipFill>
          <a:blip r:embed="rId1"/>
          <a:stretch/>
        </p:blipFill>
        <p:spPr>
          <a:xfrm rot="11649600">
            <a:off x="1042200" y="3572640"/>
            <a:ext cx="2304720" cy="20322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5"/>
          <p:cNvGrpSpPr/>
          <p:nvPr/>
        </p:nvGrpSpPr>
        <p:grpSpPr>
          <a:xfrm>
            <a:off x="6418800" y="1966680"/>
            <a:ext cx="1355040" cy="1810440"/>
            <a:chOff x="6418800" y="1966680"/>
            <a:chExt cx="1355040" cy="1810440"/>
          </a:xfrm>
        </p:grpSpPr>
        <p:sp>
          <p:nvSpPr>
            <p:cNvPr id="254" name="Freeform 16"/>
            <p:cNvSpPr/>
            <p:nvPr/>
          </p:nvSpPr>
          <p:spPr>
            <a:xfrm rot="20749200">
              <a:off x="6620760" y="2060280"/>
              <a:ext cx="969120" cy="1622520"/>
            </a:xfrm>
            <a:custGeom>
              <a:avLst/>
              <a:gdLst>
                <a:gd name="textAreaLeft" fmla="*/ 0 w 969120"/>
                <a:gd name="textAreaRight" fmla="*/ 969480 w 969120"/>
                <a:gd name="textAreaTop" fmla="*/ 0 h 1622520"/>
                <a:gd name="textAreaBottom" fmla="*/ 1622880 h 1622520"/>
              </a:gdLst>
              <a:ahLst/>
              <a:rect l="textAreaLeft" t="textAreaTop" r="textAreaRight" b="textAreaBottom"/>
              <a:pathLst>
                <a:path w="1527" h="2555">
                  <a:moveTo>
                    <a:pt x="300" y="0"/>
                  </a:moveTo>
                  <a:cubicBezTo>
                    <a:pt x="317" y="84"/>
                    <a:pt x="351" y="101"/>
                    <a:pt x="388" y="176"/>
                  </a:cubicBezTo>
                  <a:cubicBezTo>
                    <a:pt x="429" y="258"/>
                    <a:pt x="490" y="321"/>
                    <a:pt x="538" y="401"/>
                  </a:cubicBezTo>
                  <a:cubicBezTo>
                    <a:pt x="580" y="470"/>
                    <a:pt x="624" y="552"/>
                    <a:pt x="676" y="614"/>
                  </a:cubicBezTo>
                  <a:cubicBezTo>
                    <a:pt x="703" y="646"/>
                    <a:pt x="739" y="669"/>
                    <a:pt x="764" y="702"/>
                  </a:cubicBezTo>
                  <a:cubicBezTo>
                    <a:pt x="839" y="803"/>
                    <a:pt x="907" y="932"/>
                    <a:pt x="1014" y="1002"/>
                  </a:cubicBezTo>
                  <a:cubicBezTo>
                    <a:pt x="1073" y="1091"/>
                    <a:pt x="1153" y="1153"/>
                    <a:pt x="1227" y="1228"/>
                  </a:cubicBezTo>
                  <a:cubicBezTo>
                    <a:pt x="1318" y="1320"/>
                    <a:pt x="1214" y="1245"/>
                    <a:pt x="1302" y="1303"/>
                  </a:cubicBezTo>
                  <a:cubicBezTo>
                    <a:pt x="1310" y="1315"/>
                    <a:pt x="1314" y="1332"/>
                    <a:pt x="1327" y="1340"/>
                  </a:cubicBezTo>
                  <a:cubicBezTo>
                    <a:pt x="1349" y="1354"/>
                    <a:pt x="1402" y="1365"/>
                    <a:pt x="1402" y="1365"/>
                  </a:cubicBezTo>
                  <a:cubicBezTo>
                    <a:pt x="1445" y="1398"/>
                    <a:pt x="1476" y="1435"/>
                    <a:pt x="1527" y="1453"/>
                  </a:cubicBezTo>
                  <a:cubicBezTo>
                    <a:pt x="1502" y="1461"/>
                    <a:pt x="1478" y="1472"/>
                    <a:pt x="1452" y="1478"/>
                  </a:cubicBezTo>
                  <a:cubicBezTo>
                    <a:pt x="1419" y="1486"/>
                    <a:pt x="1352" y="1503"/>
                    <a:pt x="1352" y="1503"/>
                  </a:cubicBezTo>
                  <a:cubicBezTo>
                    <a:pt x="1284" y="1548"/>
                    <a:pt x="1254" y="1543"/>
                    <a:pt x="1164" y="1553"/>
                  </a:cubicBezTo>
                  <a:cubicBezTo>
                    <a:pt x="1123" y="1580"/>
                    <a:pt x="1082" y="1591"/>
                    <a:pt x="1039" y="1616"/>
                  </a:cubicBezTo>
                  <a:cubicBezTo>
                    <a:pt x="942" y="1672"/>
                    <a:pt x="850" y="1727"/>
                    <a:pt x="751" y="1779"/>
                  </a:cubicBezTo>
                  <a:cubicBezTo>
                    <a:pt x="708" y="1801"/>
                    <a:pt x="665" y="1825"/>
                    <a:pt x="626" y="1854"/>
                  </a:cubicBezTo>
                  <a:cubicBezTo>
                    <a:pt x="607" y="1868"/>
                    <a:pt x="594" y="1889"/>
                    <a:pt x="576" y="1904"/>
                  </a:cubicBezTo>
                  <a:cubicBezTo>
                    <a:pt x="560" y="1918"/>
                    <a:pt x="543" y="1929"/>
                    <a:pt x="526" y="1941"/>
                  </a:cubicBezTo>
                  <a:cubicBezTo>
                    <a:pt x="472" y="1978"/>
                    <a:pt x="408" y="2018"/>
                    <a:pt x="363" y="2067"/>
                  </a:cubicBezTo>
                  <a:cubicBezTo>
                    <a:pt x="177" y="2273"/>
                    <a:pt x="366" y="2081"/>
                    <a:pt x="250" y="2229"/>
                  </a:cubicBezTo>
                  <a:cubicBezTo>
                    <a:pt x="235" y="2248"/>
                    <a:pt x="216" y="2261"/>
                    <a:pt x="200" y="2279"/>
                  </a:cubicBezTo>
                  <a:cubicBezTo>
                    <a:pt x="182" y="2299"/>
                    <a:pt x="166" y="2320"/>
                    <a:pt x="150" y="2342"/>
                  </a:cubicBezTo>
                  <a:cubicBezTo>
                    <a:pt x="117" y="2386"/>
                    <a:pt x="102" y="2428"/>
                    <a:pt x="62" y="2467"/>
                  </a:cubicBezTo>
                  <a:cubicBezTo>
                    <a:pt x="49" y="2509"/>
                    <a:pt x="29" y="2523"/>
                    <a:pt x="0" y="25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17"/>
            <p:cNvSpPr/>
            <p:nvPr/>
          </p:nvSpPr>
          <p:spPr>
            <a:xfrm rot="13945800">
              <a:off x="6517800" y="2582280"/>
              <a:ext cx="864720" cy="675720"/>
            </a:xfrm>
            <a:custGeom>
              <a:avLst/>
              <a:gdLst>
                <a:gd name="textAreaLeft" fmla="*/ 0 w 864720"/>
                <a:gd name="textAreaRight" fmla="*/ 865080 w 86472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fill="none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</a:path>
                <a:path stroke="0" w="21368" h="21600">
                  <a:moveTo>
                    <a:pt x="-1" y="0"/>
                  </a:moveTo>
                  <a:cubicBezTo>
                    <a:pt x="10708" y="0"/>
                    <a:pt x="19800" y="7845"/>
                    <a:pt x="21367" y="1843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8"/>
            <p:cNvSpPr/>
            <p:nvPr/>
          </p:nvSpPr>
          <p:spPr>
            <a:xfrm rot="21081000">
              <a:off x="6729120" y="2688840"/>
              <a:ext cx="154080" cy="58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19"/>
            <p:cNvSpPr/>
            <p:nvPr/>
          </p:nvSpPr>
          <p:spPr>
            <a:xfrm rot="2116200">
              <a:off x="6588000" y="2604600"/>
              <a:ext cx="654840" cy="7232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fill="none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</a:path>
                <a:path stroke="0" w="21628" h="21600">
                  <a:moveTo>
                    <a:pt x="0" y="0"/>
                  </a:moveTo>
                  <a:cubicBezTo>
                    <a:pt x="9" y="0"/>
                    <a:pt x="18" y="-1"/>
                    <a:pt x="28" y="0"/>
                  </a:cubicBezTo>
                  <a:cubicBezTo>
                    <a:pt x="11957" y="0"/>
                    <a:pt x="21628" y="9670"/>
                    <a:pt x="21628" y="21600"/>
                  </a:cubicBezTo>
                  <a:lnTo>
                    <a:pt x="28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Line 20"/>
          <p:cNvSpPr/>
          <p:nvPr/>
        </p:nvSpPr>
        <p:spPr>
          <a:xfrm flipV="1">
            <a:off x="3419640" y="3141720"/>
            <a:ext cx="2952720" cy="1008000"/>
          </a:xfrm>
          <a:prstGeom prst="line">
            <a:avLst/>
          </a:prstGeom>
          <a:ln w="114480">
            <a:solidFill>
              <a:srgbClr val="ddd8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Can we see in the dark?</a:t>
            </a:r>
            <a:endParaRPr b="1" lang="en-US" sz="4400" spc="-1" strike="noStrike">
              <a:solidFill>
                <a:srgbClr val="fe211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7704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If there is </a:t>
            </a:r>
            <a:r>
              <a:rPr b="1" lang="en-GB" sz="2800" spc="-1" strike="noStrike" u="sng">
                <a:solidFill>
                  <a:srgbClr val="9933ff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 light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cannot see anything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ff"/>
                </a:solidFill>
                <a:latin typeface="Comic Sans MS"/>
              </a:rPr>
              <a:t>Let’s try a test– </a:t>
            </a:r>
            <a:endParaRPr b="1" lang="en-US" sz="2800" spc="-1" strike="noStrike">
              <a:solidFill>
                <a:srgbClr val="9933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t a few small objects into the black bag----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12T09:25:35Z</dcterms:modified>
  <cp:revision>90</cp:revision>
  <dc:subject/>
  <dc:title>WOW !</dc:title>
</cp:coreProperties>
</file>